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8DDF-6AA8-4F5C-87E9-48874E57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50B9-CE93-4163-B67B-7F7E6D31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4E3C-DF40-4EAC-90EC-862AA4162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F978-BDB4-41A2-8097-C60E0F3C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111B-D4B0-4984-9886-3A42E590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D1BA-5434-4B70-AE05-98571201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EF40-9078-4C7E-9955-B1EC0EFA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0A25-79E5-407F-856D-9E420AE1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6868-8D93-4A37-894E-10B84A77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C186-49CF-4FCF-AA4C-A9ACF88A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C3B5-2F19-438D-8FBC-1B550553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B7C4-524B-4957-81D3-DD344413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F776-4C38-40E9-89FD-F2F8BF92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B7FF-4B96-48D1-B3EE-18216603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5323-8549-4442-8536-4AFB25FB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2CE9-39DD-4B79-9FF4-84290C5F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8F45-E982-410B-8034-6CE368C2C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60AD-B7F2-489B-9CE6-338378B1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C813-A551-4FE9-A041-A5CFEC05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24FD-A217-4219-9114-5A4A404E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E6AC-C65A-4B3F-86E2-8E120F3F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F0F1-3F4E-49CE-B14C-F3816BF1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7354-301F-43CF-8263-BB31B56E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06EA-94DB-47A6-B4A6-3DC944D1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0C9D-621A-4BE8-BF50-AFF72D2E94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94CF-8C36-4E82-A292-A882288E25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2.jpe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304812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</a:rPr>
              <a:t>RFID-M1 SDK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7760" y="2437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 Black"/>
              </a:rPr>
              <a:t>RFID-M1 SDK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8600" y="181080"/>
            <a:ext cx="1295280" cy="1419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05120" y="609480"/>
            <a:ext cx="698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Gautami"/>
              </a:rPr>
              <a:t>Mifare  Card  Reader / Writer  Solution  Techn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236000" y="6165720"/>
            <a:ext cx="1719000" cy="43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676520" y="106200"/>
            <a:ext cx="61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ankGothic Md BT"/>
              </a:rPr>
              <a:t>R F I D - M 1    S D 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Anti-collis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ระบบ 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Anti-collision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ทำให้ สามารถตรวจสอบบัตรหลายๆใบในระยะได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สามารถระบุ 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serial 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บัตรที่อยู่ในระยะทั้งหมดได้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133720" y="4468680"/>
            <a:ext cx="1295280" cy="9414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3809880" y="3352680"/>
            <a:ext cx="1295640" cy="9414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5638680" y="4572000"/>
            <a:ext cx="1295640" cy="941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57200" y="4164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Get Seria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29200" y="3124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Get Serial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81680" y="53341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Get Serial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4343400"/>
            <a:ext cx="1295280" cy="12193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09880" y="3200400"/>
            <a:ext cx="1295640" cy="12193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638680" y="4419720"/>
            <a:ext cx="1295640" cy="121896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 rot="774000">
            <a:off x="3668760" y="4828680"/>
            <a:ext cx="1589040" cy="18003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3124080" y="518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 rot="12991800">
            <a:off x="4343040" y="43434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 rot="17186400">
            <a:off x="5257800" y="518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228600" y="181080"/>
            <a:ext cx="1295280" cy="14191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905120" y="609480"/>
            <a:ext cx="698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  <a:ea typeface="Gautami"/>
              </a:rPr>
              <a:t>Mifare  Card  Reader / Writer  Solution  Techn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7236000" y="6165720"/>
            <a:ext cx="1719000" cy="432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76520" y="106200"/>
            <a:ext cx="61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BankGothic Md BT"/>
              </a:rPr>
              <a:t>R F I D - M 1    S D 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xit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xit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500"/>
                            </p:stCondLst>
                            <p:childTnLst>
                              <p:par>
                                <p:cTn id="161" nodeType="afterEffect" fill="hold" presetClass="exit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ff0000"/>
                </a:solidFill>
                <a:latin typeface="Microsoft Sans Serif"/>
                <a:cs typeface="Microsoft Sans Serif"/>
              </a:rPr>
              <a:t>ความปลอดภัย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52480" y="2895120"/>
            <a:ext cx="5943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มี </a:t>
            </a:r>
            <a:r>
              <a:rPr b="0" lang="en-US" sz="32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Serial key </a:t>
            </a:r>
            <a:r>
              <a:rPr b="0" lang="th-TH" sz="32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เป็น </a:t>
            </a:r>
            <a:r>
              <a:rPr b="0" lang="en-US" sz="32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uniqu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มี </a:t>
            </a:r>
            <a:r>
              <a:rPr b="0" lang="en-US" sz="32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password </a:t>
            </a:r>
            <a:r>
              <a:rPr b="0" lang="th-TH" sz="32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ประจำแต่ละ </a:t>
            </a:r>
            <a:r>
              <a:rPr b="0" lang="en-US" sz="32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secto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มี </a:t>
            </a:r>
            <a:r>
              <a:rPr b="0" lang="en-US" sz="32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Access Condi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228600" y="181080"/>
            <a:ext cx="1295280" cy="14191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905120" y="609480"/>
            <a:ext cx="698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  <a:ea typeface="Gautami"/>
              </a:rPr>
              <a:t>Mifare  Card  Reader / Writer  Solution  Techn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236000" y="6165720"/>
            <a:ext cx="1719000" cy="432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676520" y="106200"/>
            <a:ext cx="61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BankGothic Md BT"/>
              </a:rPr>
              <a:t>R F I D - M 1    S D 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8229600" cy="28558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523880" y="4267080"/>
            <a:ext cx="2667240" cy="99072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85800" y="2009880"/>
            <a:ext cx="822960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3366"/>
                </a:solidFill>
                <a:latin typeface="Tahoma"/>
              </a:rPr>
              <a:t>บัตรแต่ละใบจะมี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rial </a:t>
            </a:r>
            <a:r>
              <a:rPr b="0" lang="th-TH" sz="3200" spc="-1" strike="noStrike">
                <a:solidFill>
                  <a:srgbClr val="003366"/>
                </a:solidFill>
                <a:latin typeface="Tahoma"/>
              </a:rPr>
              <a:t>ที่ไม่ซ้ำกันโดยจะอยู่ที่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block </a:t>
            </a:r>
            <a:r>
              <a:rPr b="0" lang="th-TH" sz="3200" spc="-1" strike="noStrike">
                <a:solidFill>
                  <a:srgbClr val="003366"/>
                </a:solidFill>
                <a:latin typeface="Tahoma"/>
              </a:rPr>
              <a:t>ที่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1</a:t>
            </a:r>
            <a:r>
              <a:rPr b="0" lang="th-TH" sz="3200" spc="-1" strike="noStrike">
                <a:solidFill>
                  <a:srgbClr val="003366"/>
                </a:solidFill>
                <a:latin typeface="Tahoma"/>
              </a:rPr>
              <a:t>ของ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tor</a:t>
            </a:r>
            <a:r>
              <a:rPr b="0" lang="th-TH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th-TH" sz="3200" spc="-1" strike="noStrike">
                <a:solidFill>
                  <a:srgbClr val="003366"/>
                </a:solidFill>
                <a:latin typeface="Tahoma"/>
              </a:rPr>
              <a:t>ที่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1</a:t>
            </a:r>
            <a:r>
              <a:rPr b="0" lang="th-TH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th-TH" sz="3200" spc="-1" strike="noStrike">
                <a:solidFill>
                  <a:srgbClr val="003366"/>
                </a:solidFill>
                <a:latin typeface="Tahoma"/>
              </a:rPr>
              <a:t>เพื่อป้องกันการปลอมแปลงบัตร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53352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Serial Ke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228600" y="181080"/>
            <a:ext cx="1295280" cy="14191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905120" y="609480"/>
            <a:ext cx="698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  <a:ea typeface="Gautami"/>
              </a:rPr>
              <a:t>Mifare  Card  Reader / Writer  Solution  Techn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7236000" y="6165720"/>
            <a:ext cx="1719000" cy="4320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676520" y="106200"/>
            <a:ext cx="61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BankGothic Md BT"/>
              </a:rPr>
              <a:t>R F I D - M 1    S D 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685800" y="2282760"/>
            <a:ext cx="7948440" cy="1146240"/>
            <a:chOff x="685800" y="2282760"/>
            <a:chExt cx="7948440" cy="1146240"/>
          </a:xfrm>
        </p:grpSpPr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685800" y="2511360"/>
              <a:ext cx="79484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3200400" y="228276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Sector tail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457200" y="1371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Password K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1142640" y="3782520"/>
            <a:ext cx="7467480" cy="23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Password 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ที่ใช้จะมีให้เลือก 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key A 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หรือ 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key 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ใช้คีย์ขนาด 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48 b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แต่ละ 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sector 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ต้องใช้ 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key 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ที่ถูกต้องเพื่อการเข้าถึงข้อมูล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สามารถใช้คีย์ป้องกันแต่ละ 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sector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ได้ถึง 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คีย์พร้อมกัน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747720" y="2548080"/>
            <a:ext cx="3048120" cy="83808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48160" y="2557440"/>
            <a:ext cx="3129120" cy="83808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228600" y="181080"/>
            <a:ext cx="1295280" cy="14191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905120" y="609480"/>
            <a:ext cx="698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  <a:ea typeface="Gautami"/>
              </a:rPr>
              <a:t>Mifare  Card  Reader / Writer  Solution  Techn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7236000" y="6165720"/>
            <a:ext cx="1719000" cy="432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676520" y="106200"/>
            <a:ext cx="61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BankGothic Md BT"/>
              </a:rPr>
              <a:t>R F I D - M 1    S D 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685800" y="2286000"/>
            <a:ext cx="7948440" cy="1146240"/>
            <a:chOff x="685800" y="2286000"/>
            <a:chExt cx="7948440" cy="1146240"/>
          </a:xfrm>
        </p:grpSpPr>
        <p:pic>
          <p:nvPicPr>
            <p:cNvPr id="312" name="" descr=""/>
            <p:cNvPicPr/>
            <p:nvPr/>
          </p:nvPicPr>
          <p:blipFill>
            <a:blip r:embed="rId1"/>
            <a:stretch/>
          </p:blipFill>
          <p:spPr>
            <a:xfrm>
              <a:off x="685800" y="2514600"/>
              <a:ext cx="794844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3200400" y="22860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Sector tail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Access condi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95280" y="4095360"/>
            <a:ext cx="6858000" cy="22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สิทธิในการ 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Re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สิทธิในการ 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Wri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สิทธิในการ 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Incr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- 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สิทธิในการ 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Decrement , Transfer , Rest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"/>
          <p:cNvSpPr/>
          <p:nvPr/>
        </p:nvSpPr>
        <p:spPr>
          <a:xfrm>
            <a:off x="3533760" y="2638440"/>
            <a:ext cx="2133720" cy="6858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36720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Access condition </a:t>
            </a:r>
            <a:r>
              <a:rPr b="1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ควบคุมการอ่าน</a:t>
            </a:r>
            <a:r>
              <a:rPr b="1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-</a:t>
            </a:r>
            <a:r>
              <a:rPr b="1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เขียนแต่ละ </a:t>
            </a:r>
            <a:r>
              <a:rPr b="1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Block </a:t>
            </a:r>
            <a:r>
              <a:rPr b="1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ใน </a:t>
            </a:r>
            <a:r>
              <a:rPr b="1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228600" y="181080"/>
            <a:ext cx="1295280" cy="14191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905120" y="609480"/>
            <a:ext cx="698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  <a:ea typeface="Gautami"/>
              </a:rPr>
              <a:t>Mifare  Card  Reader / Writer  Solution  Techn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7236000" y="6165720"/>
            <a:ext cx="1719000" cy="432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1676520" y="106200"/>
            <a:ext cx="61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BankGothic Md BT"/>
              </a:rPr>
              <a:t>R F I D - M 1    S D 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662360" cy="65530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457200" y="990720"/>
            <a:ext cx="3809880" cy="6858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44160" y="1905120"/>
            <a:ext cx="41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2.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ทำการ 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request 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การติดต่อบัต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520" y="1981080"/>
            <a:ext cx="3809880" cy="6858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54960" y="2514600"/>
            <a:ext cx="35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3.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ตรวจสอบ 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anti-coll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048120"/>
            <a:ext cx="3809880" cy="6858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937760" y="312408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4.Select ca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520" y="4038480"/>
            <a:ext cx="3809880" cy="6858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37040" y="3733920"/>
            <a:ext cx="390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5.Authentication 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บัตรที่เลือกด้วยคีย์ 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(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password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52280" y="5257800"/>
            <a:ext cx="4648320" cy="121932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52880" y="47242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6.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ทำการ อ่าน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/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เขียน ข้อมูล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97720" y="304920"/>
            <a:ext cx="4006080" cy="520560"/>
          </a:xfrm>
          <a:prstGeom prst="rect">
            <a:avLst/>
          </a:prstGeom>
          <a:solidFill>
            <a:srgbClr val="ff993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ลำดับการทำงานของระบบ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152280"/>
            <a:ext cx="1143000" cy="60984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1447920" y="304920"/>
            <a:ext cx="22096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952880" y="533412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7.Halt  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เพื่อจะไม่อ่านบัตรนั้นๆอีกและกลับไปรอบัตรใบใหม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81280" y="5105520"/>
            <a:ext cx="914400" cy="76176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9120" y="988920"/>
            <a:ext cx="347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1.POR (Power on res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เมื่อบัตรเข้ามาอยู่ในระย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7236000" y="6165720"/>
            <a:ext cx="1719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88596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3300"/>
                </a:solidFill>
                <a:latin typeface="Microsoft Sans Serif"/>
                <a:cs typeface="Microsoft Sans Serif"/>
              </a:rPr>
              <a:t>ตัวอย่างการพัฒนาระบบ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838080" y="1722600"/>
            <a:ext cx="3198600" cy="1371600"/>
            <a:chOff x="838080" y="1722600"/>
            <a:chExt cx="3198600" cy="1371600"/>
          </a:xfrm>
        </p:grpSpPr>
        <p:sp>
          <p:nvSpPr>
            <p:cNvPr id="342" name=""/>
            <p:cNvSpPr/>
            <p:nvPr/>
          </p:nvSpPr>
          <p:spPr>
            <a:xfrm>
              <a:off x="838080" y="1722600"/>
              <a:ext cx="3198600" cy="137160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06200" y="1798560"/>
              <a:ext cx="2946240" cy="11912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Microsoft Sans Serif"/>
                  <a:cs typeface="Microsoft Sans Serif"/>
                </a:rPr>
                <a:t>วิเคราะห์ระบบ และรวบรวมสิ่งที่ต้องการเก็บลงบันบัตร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183280" y="1722600"/>
            <a:ext cx="3198600" cy="914400"/>
            <a:chOff x="5183280" y="1722600"/>
            <a:chExt cx="3198600" cy="914400"/>
          </a:xfrm>
        </p:grpSpPr>
        <p:sp>
          <p:nvSpPr>
            <p:cNvPr id="345" name=""/>
            <p:cNvSpPr/>
            <p:nvPr/>
          </p:nvSpPr>
          <p:spPr>
            <a:xfrm>
              <a:off x="5183280" y="1722600"/>
              <a:ext cx="3198600" cy="91440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86400" y="1739880"/>
              <a:ext cx="2666880" cy="8254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Microsoft Sans Serif"/>
                  <a:cs typeface="Microsoft Sans Serif"/>
                </a:rPr>
                <a:t>จัดแบ่งชนิดของข้อมูลที่ต้องการเก็บ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181480" y="3095640"/>
            <a:ext cx="3205440" cy="1295280"/>
            <a:chOff x="5181480" y="3095640"/>
            <a:chExt cx="3205440" cy="1295280"/>
          </a:xfrm>
        </p:grpSpPr>
        <p:sp>
          <p:nvSpPr>
            <p:cNvPr id="348" name=""/>
            <p:cNvSpPr/>
            <p:nvPr/>
          </p:nvSpPr>
          <p:spPr>
            <a:xfrm>
              <a:off x="5181480" y="3095640"/>
              <a:ext cx="3200400" cy="12952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491080" y="3171600"/>
              <a:ext cx="2895840" cy="11912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Microsoft Sans Serif"/>
                  <a:cs typeface="Microsoft Sans Serif"/>
                </a:rPr>
                <a:t>จัดข้อมูลที่ต้องการเก็บให้อยู่รูปที่สามารถเก็บลงบัตรได้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839880" y="3368520"/>
            <a:ext cx="3198600" cy="1022400"/>
            <a:chOff x="839880" y="3368520"/>
            <a:chExt cx="3198600" cy="1022400"/>
          </a:xfrm>
        </p:grpSpPr>
        <p:sp>
          <p:nvSpPr>
            <p:cNvPr id="351" name=""/>
            <p:cNvSpPr/>
            <p:nvPr/>
          </p:nvSpPr>
          <p:spPr>
            <a:xfrm>
              <a:off x="839880" y="3368520"/>
              <a:ext cx="3198600" cy="102240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33560" y="3430440"/>
              <a:ext cx="2928960" cy="8254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Microsoft Sans Serif"/>
                  <a:cs typeface="Microsoft Sans Serif"/>
                </a:rPr>
                <a:t>กำหนดส่วนของระบบที่ต้องมีการใช้งานบัตร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838080" y="4848120"/>
            <a:ext cx="3200400" cy="1295640"/>
            <a:chOff x="838080" y="4848120"/>
            <a:chExt cx="3200400" cy="1295640"/>
          </a:xfrm>
        </p:grpSpPr>
        <p:sp>
          <p:nvSpPr>
            <p:cNvPr id="354" name=""/>
            <p:cNvSpPr/>
            <p:nvPr/>
          </p:nvSpPr>
          <p:spPr>
            <a:xfrm>
              <a:off x="838080" y="4848120"/>
              <a:ext cx="3200400" cy="12956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38240" y="4916520"/>
              <a:ext cx="2847960" cy="11912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Microsoft Sans Serif"/>
                  <a:cs typeface="Microsoft Sans Serif"/>
                </a:rPr>
                <a:t>ระบุลักษณะการใช้งานบัตรในแต่ละส่วนว่าทำหน้าที่อะไรบ้าง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5181480" y="5153040"/>
            <a:ext cx="3200400" cy="990720"/>
            <a:chOff x="5181480" y="5153040"/>
            <a:chExt cx="3200400" cy="990720"/>
          </a:xfrm>
        </p:grpSpPr>
        <p:sp>
          <p:nvSpPr>
            <p:cNvPr id="357" name=""/>
            <p:cNvSpPr/>
            <p:nvPr/>
          </p:nvSpPr>
          <p:spPr>
            <a:xfrm>
              <a:off x="5181480" y="5153040"/>
              <a:ext cx="3200400" cy="9907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10160" y="5229360"/>
              <a:ext cx="2643120" cy="8254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Microsoft Sans Serif"/>
                  <a:cs typeface="Microsoft Sans Serif"/>
                </a:rPr>
                <a:t>พัฒนาโปรแกรมและทดสอบ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4038480" y="2028960"/>
            <a:ext cx="11430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81680" y="2638440"/>
            <a:ext cx="0" cy="45720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4038120" y="3781440"/>
            <a:ext cx="11430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38280" y="4390920"/>
            <a:ext cx="0" cy="45720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038480" y="5457960"/>
            <a:ext cx="114300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28600" y="181080"/>
            <a:ext cx="1295280" cy="14191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1905120" y="609480"/>
            <a:ext cx="698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  <a:ea typeface="Gautami"/>
              </a:rPr>
              <a:t>Mifare  Card  Reader / Writer  Solution  Techn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7236000" y="6165720"/>
            <a:ext cx="1719000" cy="432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676520" y="106200"/>
            <a:ext cx="61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BankGothic Md BT"/>
              </a:rPr>
              <a:t>R F I D - M 1    S D 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8600" y="181080"/>
            <a:ext cx="1295280" cy="1419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64720" y="1457280"/>
            <a:ext cx="698364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0000"/>
                </a:solidFill>
                <a:latin typeface="Microsoft Sans Serif"/>
                <a:cs typeface="Microsoft Sans Serif"/>
              </a:rPr>
              <a:t>ภายในชุดประกอบด้วย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 rot="1387800">
            <a:off x="1722240" y="3428640"/>
            <a:ext cx="1589040" cy="1800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188040" y="3809880"/>
            <a:ext cx="1320840" cy="889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40840" y="2549520"/>
            <a:ext cx="4709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1. RFID-M1 card reader/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82480" y="2544840"/>
            <a:ext cx="32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2. Mifare smart c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609480"/>
            <a:ext cx="698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  <a:ea typeface="Gautami"/>
              </a:rPr>
              <a:t>Mifare  Card  Reader / Writer  Solution  Techn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236000" y="6165720"/>
            <a:ext cx="1719000" cy="432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76520" y="106200"/>
            <a:ext cx="61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BankGothic Md BT"/>
              </a:rPr>
              <a:t>R F I D - M 1    S D 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RFID-M1 card reader/writ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2579760"/>
            <a:ext cx="2800440" cy="2830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581280" y="2473200"/>
            <a:ext cx="51818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ส่งสัญญาณติดต่อกับบัตรในรูปของคลื่นความถี่วิทย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ระยะที่สามารถติดต่อได้ ประมาณ 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5 c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ใช้กับ 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Mifare card 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เช่น รุ่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S50 (1KB), S70 (4K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ใช้ 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USB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8600" y="181080"/>
            <a:ext cx="1295280" cy="1419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05120" y="609480"/>
            <a:ext cx="698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  <a:ea typeface="Gautami"/>
              </a:rPr>
              <a:t>Mifare  Card  Reader / Writer  Solution  Techn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236000" y="6165720"/>
            <a:ext cx="1719000" cy="432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676520" y="106200"/>
            <a:ext cx="61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BankGothic Md BT"/>
              </a:rPr>
              <a:t>R F I D - M 1    S D 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3048120" y="2438280"/>
            <a:ext cx="2971800" cy="2517120"/>
            <a:chOff x="3048120" y="2438280"/>
            <a:chExt cx="2971800" cy="251712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3352680" y="2438280"/>
              <a:ext cx="2136960" cy="15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048120" y="44956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66"/>
                  </a:solidFill>
                  <a:latin typeface="Microsoft Sans Serif"/>
                  <a:cs typeface="Microsoft Sans Serif"/>
                </a:rPr>
                <a:t>มีขนาด </a:t>
              </a:r>
              <a:r>
                <a:rPr b="0" lang="en-US" sz="2400" spc="-1" strike="noStrike">
                  <a:solidFill>
                    <a:srgbClr val="003366"/>
                  </a:solidFill>
                  <a:latin typeface="Microsoft Sans Serif"/>
                  <a:ea typeface="Microsoft Sans Serif"/>
                </a:rPr>
                <a:t>1KB </a:t>
              </a:r>
              <a:r>
                <a:rPr b="0" lang="th-TH" sz="2400" spc="-1" strike="noStrike">
                  <a:solidFill>
                    <a:srgbClr val="003366"/>
                  </a:solidFill>
                  <a:latin typeface="Microsoft Sans Serif"/>
                  <a:cs typeface="Microsoft Sans Serif"/>
                </a:rPr>
                <a:t>และ </a:t>
              </a:r>
              <a:r>
                <a:rPr b="0" lang="en-US" sz="2400" spc="-1" strike="noStrike">
                  <a:solidFill>
                    <a:srgbClr val="003366"/>
                  </a:solidFill>
                  <a:latin typeface="Microsoft Sans Serif"/>
                  <a:ea typeface="Microsoft Sans Serif"/>
                </a:rPr>
                <a:t>4K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ff0000"/>
                </a:solidFill>
                <a:latin typeface="Microsoft Sans Serif"/>
                <a:cs typeface="Microsoft Sans Serif"/>
              </a:rPr>
              <a:t>บัตร </a:t>
            </a:r>
            <a:r>
              <a:rPr b="0" lang="en-US" sz="50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Mifare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8600" y="181080"/>
            <a:ext cx="1295280" cy="14191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05120" y="609480"/>
            <a:ext cx="698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  <a:ea typeface="Gautami"/>
              </a:rPr>
              <a:t>Mifare  Card  Reader / Writer  Solution  Techn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236000" y="6165720"/>
            <a:ext cx="1719000" cy="432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76520" y="106200"/>
            <a:ext cx="61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BankGothic Md BT"/>
              </a:rPr>
              <a:t>R F I D - M 1    S D 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ff0000"/>
                </a:solidFill>
                <a:latin typeface="Microsoft Sans Serif"/>
                <a:cs typeface="Microsoft Sans Serif"/>
              </a:rPr>
              <a:t>บัตร </a:t>
            </a:r>
            <a:r>
              <a:rPr b="0" lang="en-US" sz="50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Mifare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048120" y="2438280"/>
            <a:ext cx="2971800" cy="2517120"/>
            <a:chOff x="3048120" y="2438280"/>
            <a:chExt cx="2971800" cy="251712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352680" y="2438280"/>
              <a:ext cx="2136960" cy="15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048120" y="44956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66"/>
                  </a:solidFill>
                  <a:latin typeface="Microsoft Sans Serif"/>
                  <a:cs typeface="Microsoft Sans Serif"/>
                </a:rPr>
                <a:t>มีขนาด </a:t>
              </a:r>
              <a:r>
                <a:rPr b="0" lang="en-US" sz="2400" spc="-1" strike="noStrike">
                  <a:solidFill>
                    <a:srgbClr val="003366"/>
                  </a:solidFill>
                  <a:latin typeface="Microsoft Sans Serif"/>
                  <a:ea typeface="Microsoft Sans Serif"/>
                </a:rPr>
                <a:t>1KB </a:t>
              </a:r>
              <a:r>
                <a:rPr b="0" lang="th-TH" sz="2400" spc="-1" strike="noStrike">
                  <a:solidFill>
                    <a:srgbClr val="003366"/>
                  </a:solidFill>
                  <a:latin typeface="Microsoft Sans Serif"/>
                  <a:cs typeface="Microsoft Sans Serif"/>
                </a:rPr>
                <a:t>และ </a:t>
              </a:r>
              <a:r>
                <a:rPr b="0" lang="en-US" sz="2400" spc="-1" strike="noStrike">
                  <a:solidFill>
                    <a:srgbClr val="003366"/>
                  </a:solidFill>
                  <a:latin typeface="Microsoft Sans Serif"/>
                  <a:ea typeface="Microsoft Sans Serif"/>
                </a:rPr>
                <a:t>4K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28600" y="181080"/>
            <a:ext cx="1295280" cy="1419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905120" y="609480"/>
            <a:ext cx="698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  <a:ea typeface="Gautami"/>
              </a:rPr>
              <a:t>Mifare  Card  Reader / Writer  Solution  Techn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236000" y="6165720"/>
            <a:ext cx="1719000" cy="432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76520" y="106200"/>
            <a:ext cx="61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BankGothic Md BT"/>
              </a:rPr>
              <a:t>R F I D - M 1    S D 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04046E-006 C -0.08819 0.00578 -0.17621 0.01156 -0.22708 0.03584 C -0.27795 0.06011 -0.30086 0.11029 -0.30486 0.14589 C -0.30885 0.1815 -0.28767 0.2185 -0.25086 0.24948 C -0.21406 0.28046 -0.19635 0.30081 -0.0842 0.33179 C 0.02795 0.36277 0.33785 0.41803 0.42223 0.43537 E">
                                      <p:cBhvr>
                                        <p:cTn id="26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0000"/>
                </a:solidFill>
                <a:latin typeface="Microsoft Sans Serif"/>
                <a:cs typeface="Microsoft Sans Serif"/>
              </a:rPr>
              <a:t>โครงสร้างข้อมูลบัตร </a:t>
            </a:r>
            <a:r>
              <a:rPr b="0" lang="en-US" sz="40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Mifar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600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บัตร 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ใบ ประกอบด้วย 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16 sector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705720" y="2209680"/>
            <a:ext cx="990360" cy="4267080"/>
            <a:chOff x="6705720" y="2209680"/>
            <a:chExt cx="990360" cy="4267080"/>
          </a:xfrm>
        </p:grpSpPr>
        <p:sp>
          <p:nvSpPr>
            <p:cNvPr id="123" name=""/>
            <p:cNvSpPr/>
            <p:nvPr/>
          </p:nvSpPr>
          <p:spPr>
            <a:xfrm flipV="1">
              <a:off x="7010280" y="2209680"/>
              <a:ext cx="0" cy="1676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10280" y="4419360"/>
              <a:ext cx="0" cy="2057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05720" y="403848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16 secto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133720" y="2133720"/>
            <a:ext cx="4572000" cy="4420080"/>
            <a:chOff x="2133720" y="2133720"/>
            <a:chExt cx="4572000" cy="4420080"/>
          </a:xfrm>
        </p:grpSpPr>
        <p:grpSp>
          <p:nvGrpSpPr>
            <p:cNvPr id="127" name=""/>
            <p:cNvGrpSpPr/>
            <p:nvPr/>
          </p:nvGrpSpPr>
          <p:grpSpPr>
            <a:xfrm>
              <a:off x="2133720" y="2133720"/>
              <a:ext cx="4571280" cy="4343040"/>
              <a:chOff x="2133720" y="2133720"/>
              <a:chExt cx="4571280" cy="434304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2133720" y="2133720"/>
                <a:ext cx="4571280" cy="2171520"/>
                <a:chOff x="2133720" y="2133720"/>
                <a:chExt cx="4571280" cy="217152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133720" y="2133720"/>
                  <a:ext cx="4571280" cy="27144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133720" y="2405160"/>
                  <a:ext cx="4571280" cy="27144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133720" y="2676600"/>
                  <a:ext cx="4571280" cy="27144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133720" y="2948040"/>
                  <a:ext cx="4571280" cy="27144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133720" y="3219480"/>
                  <a:ext cx="4571280" cy="27144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3490920"/>
                  <a:ext cx="4571280" cy="27144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3762360"/>
                  <a:ext cx="4571280" cy="27144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133720" y="4033800"/>
                  <a:ext cx="4571280" cy="27144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2133720" y="4305240"/>
                <a:ext cx="4571280" cy="2171520"/>
                <a:chOff x="2133720" y="4305240"/>
                <a:chExt cx="4571280" cy="21715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2133720" y="4305240"/>
                  <a:ext cx="4571280" cy="27144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133720" y="4576680"/>
                  <a:ext cx="4571280" cy="27144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133720" y="4848120"/>
                  <a:ext cx="4571280" cy="27144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133720" y="5119560"/>
                  <a:ext cx="4571280" cy="27144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133720" y="5391000"/>
                  <a:ext cx="4571280" cy="27144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133720" y="5662440"/>
                  <a:ext cx="4571280" cy="27144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133720" y="5933880"/>
                  <a:ext cx="4571280" cy="27144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133720" y="6205320"/>
                  <a:ext cx="4571280" cy="27144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" name=""/>
            <p:cNvSpPr/>
            <p:nvPr/>
          </p:nvSpPr>
          <p:spPr>
            <a:xfrm>
              <a:off x="2286360" y="621648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86360" y="591156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86360" y="563868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86360" y="213372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1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360" y="240624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360" y="266688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1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86360" y="293976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1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86360" y="320004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1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360" y="347328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86360" y="373356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86360" y="400644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86360" y="431136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360" y="457164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86360" y="484488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86360" y="510516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6360" y="537804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86360" y="213372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1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86360" y="266688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1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8600" y="181080"/>
            <a:ext cx="1295280" cy="1419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905120" y="609480"/>
            <a:ext cx="698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  <a:ea typeface="Gautami"/>
              </a:rPr>
              <a:t>Mifare  Card  Reader / Writer  Solution  Techn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236000" y="6165720"/>
            <a:ext cx="1719000" cy="432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676520" y="106200"/>
            <a:ext cx="61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BankGothic Md BT"/>
              </a:rPr>
              <a:t>R F I D - M 1    S D 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6705720" y="2209680"/>
            <a:ext cx="990360" cy="4267080"/>
            <a:chOff x="6705720" y="2209680"/>
            <a:chExt cx="990360" cy="4267080"/>
          </a:xfrm>
        </p:grpSpPr>
        <p:sp>
          <p:nvSpPr>
            <p:cNvPr id="169" name=""/>
            <p:cNvSpPr/>
            <p:nvPr/>
          </p:nvSpPr>
          <p:spPr>
            <a:xfrm flipV="1">
              <a:off x="7010280" y="2209680"/>
              <a:ext cx="0" cy="1676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10280" y="4419360"/>
              <a:ext cx="0" cy="2057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05720" y="403848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0000"/>
                  </a:solidFill>
                  <a:latin typeface="Arial"/>
                </a:rPr>
                <a:t>16 secto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133720" y="2133720"/>
            <a:ext cx="4572000" cy="4420080"/>
            <a:chOff x="2133720" y="2133720"/>
            <a:chExt cx="4572000" cy="4420080"/>
          </a:xfrm>
        </p:grpSpPr>
        <p:grpSp>
          <p:nvGrpSpPr>
            <p:cNvPr id="173" name=""/>
            <p:cNvGrpSpPr/>
            <p:nvPr/>
          </p:nvGrpSpPr>
          <p:grpSpPr>
            <a:xfrm>
              <a:off x="2133720" y="2133720"/>
              <a:ext cx="4571280" cy="4343040"/>
              <a:chOff x="2133720" y="2133720"/>
              <a:chExt cx="4571280" cy="434304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2133720" y="2133720"/>
                <a:ext cx="4571280" cy="2171520"/>
                <a:chOff x="2133720" y="2133720"/>
                <a:chExt cx="4571280" cy="217152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133720" y="2133720"/>
                  <a:ext cx="4571280" cy="27144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133720" y="2405160"/>
                  <a:ext cx="4571280" cy="27144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133720" y="2676600"/>
                  <a:ext cx="4571280" cy="27144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133720" y="2948040"/>
                  <a:ext cx="4571280" cy="27144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133720" y="3219480"/>
                  <a:ext cx="4571280" cy="27144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133720" y="3490920"/>
                  <a:ext cx="4571280" cy="27144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133720" y="3762360"/>
                  <a:ext cx="4571280" cy="27144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133720" y="4033800"/>
                  <a:ext cx="4571280" cy="27144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2133720" y="4305240"/>
                <a:ext cx="4571280" cy="2171520"/>
                <a:chOff x="2133720" y="4305240"/>
                <a:chExt cx="4571280" cy="21715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133720" y="4305240"/>
                  <a:ext cx="4571280" cy="27144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133720" y="4576680"/>
                  <a:ext cx="4571280" cy="27144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133720" y="4848120"/>
                  <a:ext cx="4571280" cy="27144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133720" y="5119560"/>
                  <a:ext cx="4571280" cy="27144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133720" y="5391000"/>
                  <a:ext cx="4571280" cy="27144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133720" y="5662440"/>
                  <a:ext cx="4571280" cy="27144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133720" y="5933880"/>
                  <a:ext cx="4571280" cy="27144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133720" y="6205320"/>
                  <a:ext cx="4571280" cy="27144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2" name=""/>
            <p:cNvSpPr/>
            <p:nvPr/>
          </p:nvSpPr>
          <p:spPr>
            <a:xfrm>
              <a:off x="2286360" y="621648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86360" y="591156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86360" y="563868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86360" y="213372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1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360" y="240624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86360" y="266688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1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86360" y="293976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1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86360" y="320004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1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86360" y="347328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86360" y="373356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360" y="400644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86360" y="431136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86360" y="457164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360" y="484488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86360" y="510516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86360" y="537804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6360" y="213372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1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86360" y="2666880"/>
              <a:ext cx="441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33"/>
                  </a:solidFill>
                  <a:latin typeface="Arial"/>
                </a:rPr>
                <a:t>Sector 1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752480" y="5867280"/>
            <a:ext cx="5029200" cy="380880"/>
            <a:chOff x="1752480" y="5867280"/>
            <a:chExt cx="5029200" cy="380880"/>
          </a:xfrm>
        </p:grpSpPr>
        <p:sp>
          <p:nvSpPr>
            <p:cNvPr id="211" name=""/>
            <p:cNvSpPr/>
            <p:nvPr/>
          </p:nvSpPr>
          <p:spPr>
            <a:xfrm>
              <a:off x="1752480" y="5867280"/>
              <a:ext cx="50292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52480" y="6248160"/>
              <a:ext cx="50292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52480" y="5867280"/>
              <a:ext cx="0" cy="38088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81680" y="5867280"/>
              <a:ext cx="0" cy="38088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990720" y="4648320"/>
            <a:ext cx="6933960" cy="1450440"/>
            <a:chOff x="990720" y="4648320"/>
            <a:chExt cx="6933960" cy="1450440"/>
          </a:xfrm>
        </p:grpSpPr>
        <p:grpSp>
          <p:nvGrpSpPr>
            <p:cNvPr id="216" name=""/>
            <p:cNvGrpSpPr/>
            <p:nvPr/>
          </p:nvGrpSpPr>
          <p:grpSpPr>
            <a:xfrm>
              <a:off x="990720" y="4648320"/>
              <a:ext cx="6933960" cy="1450440"/>
              <a:chOff x="990720" y="4648320"/>
              <a:chExt cx="6933960" cy="145044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990720" y="4648320"/>
                <a:ext cx="6933960" cy="1450440"/>
                <a:chOff x="990720" y="4648320"/>
                <a:chExt cx="6933960" cy="145044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990720" y="4648320"/>
                  <a:ext cx="6933960" cy="362520"/>
                </a:xfrm>
                <a:prstGeom prst="rect">
                  <a:avLst/>
                </a:prstGeom>
                <a:solidFill>
                  <a:srgbClr val="0099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990720" y="5010840"/>
                  <a:ext cx="6933960" cy="36252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990720" y="5373360"/>
                  <a:ext cx="6933960" cy="36288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990720" y="5736240"/>
                  <a:ext cx="6933960" cy="362520"/>
                </a:xfrm>
                <a:prstGeom prst="rect">
                  <a:avLst/>
                </a:prstGeom>
                <a:solidFill>
                  <a:srgbClr val="2b5481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"/>
              <p:cNvSpPr/>
              <p:nvPr/>
            </p:nvSpPr>
            <p:spPr>
              <a:xfrm>
                <a:off x="1066680" y="4651200"/>
                <a:ext cx="678204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1066680" y="575964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66680" y="541044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66680" y="502920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66680" y="46483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85800" y="1600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บัตร 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ใบ ประกอบด้วย 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16 sector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0000"/>
                </a:solidFill>
                <a:latin typeface="Microsoft Sans Serif"/>
                <a:cs typeface="Microsoft Sans Serif"/>
              </a:rPr>
              <a:t>โครงสร้างข้อมูลบัตร </a:t>
            </a:r>
            <a:r>
              <a:rPr b="0" lang="en-US" sz="40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Mifar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28600" y="181080"/>
            <a:ext cx="1295280" cy="1419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905120" y="609480"/>
            <a:ext cx="698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  <a:ea typeface="Gautami"/>
              </a:rPr>
              <a:t>Mifare  Card  Reader / Writer  Solution  Techn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7236000" y="6165720"/>
            <a:ext cx="1719000" cy="432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676520" y="106200"/>
            <a:ext cx="61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BankGothic Md BT"/>
              </a:rPr>
              <a:t>R F I D - M 1    S D 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066680" y="463248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or Tailer (Password &amp; Access ru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990360" y="4098960"/>
            <a:ext cx="6933960" cy="307080"/>
            <a:chOff x="990360" y="4098960"/>
            <a:chExt cx="6933960" cy="307080"/>
          </a:xfrm>
        </p:grpSpPr>
        <p:sp>
          <p:nvSpPr>
            <p:cNvPr id="235" name=""/>
            <p:cNvSpPr/>
            <p:nvPr/>
          </p:nvSpPr>
          <p:spPr>
            <a:xfrm>
              <a:off x="5181480" y="4327560"/>
              <a:ext cx="2742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990360" y="4327560"/>
              <a:ext cx="2895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09880" y="4098960"/>
              <a:ext cx="144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ff0000"/>
                  </a:solidFill>
                  <a:latin typeface="Microsoft Sans Serif"/>
                  <a:cs typeface="Microsoft Sans Serif"/>
                </a:rPr>
                <a:t>ขนาด </a:t>
              </a:r>
              <a:r>
                <a:rPr b="0" lang="en-US" sz="1400" spc="-1" strike="noStrike">
                  <a:solidFill>
                    <a:srgbClr val="ff0000"/>
                  </a:solidFill>
                  <a:latin typeface="Microsoft Sans Serif"/>
                  <a:ea typeface="Microsoft Sans Serif"/>
                </a:rPr>
                <a:t>16 byt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924680" y="4647960"/>
            <a:ext cx="838080" cy="1523880"/>
            <a:chOff x="7924680" y="4647960"/>
            <a:chExt cx="838080" cy="1523880"/>
          </a:xfrm>
        </p:grpSpPr>
        <p:sp>
          <p:nvSpPr>
            <p:cNvPr id="239" name=""/>
            <p:cNvSpPr/>
            <p:nvPr/>
          </p:nvSpPr>
          <p:spPr>
            <a:xfrm flipV="1">
              <a:off x="8297280" y="4647960"/>
              <a:ext cx="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297280" y="5638680"/>
              <a:ext cx="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24680" y="5181480"/>
              <a:ext cx="838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Microsoft Sans Serif"/>
                  <a:ea typeface="Microsoft Sans Serif"/>
                </a:rPr>
                <a:t>4 block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990720" y="4648320"/>
            <a:ext cx="6933960" cy="1450440"/>
            <a:chOff x="990720" y="4648320"/>
            <a:chExt cx="6933960" cy="1450440"/>
          </a:xfrm>
        </p:grpSpPr>
        <p:grpSp>
          <p:nvGrpSpPr>
            <p:cNvPr id="243" name=""/>
            <p:cNvGrpSpPr/>
            <p:nvPr/>
          </p:nvGrpSpPr>
          <p:grpSpPr>
            <a:xfrm>
              <a:off x="990720" y="4648320"/>
              <a:ext cx="6933960" cy="1450440"/>
              <a:chOff x="990720" y="4648320"/>
              <a:chExt cx="6933960" cy="1450440"/>
            </a:xfrm>
          </p:grpSpPr>
          <p:sp>
            <p:nvSpPr>
              <p:cNvPr id="244" name=""/>
              <p:cNvSpPr/>
              <p:nvPr/>
            </p:nvSpPr>
            <p:spPr>
              <a:xfrm>
                <a:off x="990720" y="4648320"/>
                <a:ext cx="6933960" cy="36252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990720" y="5010840"/>
                <a:ext cx="6933960" cy="362520"/>
              </a:xfrm>
              <a:prstGeom prst="rect">
                <a:avLst/>
              </a:prstGeom>
              <a:solidFill>
                <a:srgbClr val="2b548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990720" y="5373360"/>
                <a:ext cx="6933960" cy="362880"/>
              </a:xfrm>
              <a:prstGeom prst="rect">
                <a:avLst/>
              </a:prstGeom>
              <a:solidFill>
                <a:srgbClr val="2b548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90720" y="5736240"/>
                <a:ext cx="6933960" cy="362520"/>
              </a:xfrm>
              <a:prstGeom prst="rect">
                <a:avLst/>
              </a:prstGeom>
              <a:solidFill>
                <a:srgbClr val="2b548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1066680" y="575964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66680" y="541044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66680" y="502920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66680" y="4648320"/>
              <a:ext cx="456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685800" y="2286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sector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ประกอบด้วย 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4 blocks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3352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1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block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มีขนาด 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16 bytes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2819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 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โดยมี 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block 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สุดท้าย เป็น ส่วนที่เก็บ 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password 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ของ 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sector 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นั้น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1600200"/>
            <a:ext cx="476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S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ff0000"/>
                </a:solidFill>
                <a:latin typeface="Microsoft Sans Serif"/>
                <a:cs typeface="Microsoft Sans Serif"/>
              </a:rPr>
              <a:t>โครงสร้างข้อมูลบัตร </a:t>
            </a:r>
            <a:r>
              <a:rPr b="0" lang="en-US" sz="4000" spc="-1" strike="noStrike">
                <a:solidFill>
                  <a:srgbClr val="ff0000"/>
                </a:solidFill>
                <a:latin typeface="Microsoft Sans Serif"/>
                <a:ea typeface="Microsoft Sans Serif"/>
              </a:rPr>
              <a:t>Mifar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28600" y="181080"/>
            <a:ext cx="1295280" cy="1419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905120" y="609480"/>
            <a:ext cx="698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  <a:ea typeface="Gautami"/>
              </a:rPr>
              <a:t>Mifare  Card  Reader / Writer  Solution  Techn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7236000" y="6165720"/>
            <a:ext cx="1719000" cy="4320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676520" y="106200"/>
            <a:ext cx="61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BankGothic Md BT"/>
              </a:rPr>
              <a:t>R F I D - M 1    S D 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100764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ff0000"/>
                </a:solidFill>
                <a:latin typeface="Microsoft Sans Serif"/>
                <a:cs typeface="Microsoft Sans Serif"/>
              </a:rPr>
              <a:t>การเก็บข้อมูลลงบัตร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2638440"/>
            <a:ext cx="8153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ข้อมูลที่จะบันทึกลงบัตรจะมีรูปแบบในการเก็บ </a:t>
            </a: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2 </a:t>
            </a:r>
            <a:r>
              <a:rPr b="0" lang="th-TH" sz="2400" spc="-1" strike="noStrike">
                <a:solidFill>
                  <a:srgbClr val="003366"/>
                </a:solidFill>
                <a:latin typeface="Microsoft Sans Serif"/>
                <a:cs typeface="Microsoft Sans Serif"/>
              </a:rPr>
              <a:t>รูปแบ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Data  block (Ascii cod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Microsoft Sans Serif"/>
                <a:ea typeface="Microsoft Sans Serif"/>
              </a:rPr>
              <a:t>Valu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81080"/>
            <a:ext cx="1295280" cy="14191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905120" y="609480"/>
            <a:ext cx="698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Verdana"/>
                <a:ea typeface="Gautami"/>
              </a:rPr>
              <a:t>Mifare  Card  Reader / Writer  Solution  Techn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236000" y="6165720"/>
            <a:ext cx="1719000" cy="4320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676520" y="106200"/>
            <a:ext cx="61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BankGothic Md BT"/>
              </a:rPr>
              <a:t>R F I D - M 1    S D 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09:43:35Z</dcterms:created>
  <dc:creator>Petch</dc:creator>
  <dc:description/>
  <dc:language>en-US</dc:language>
  <cp:lastModifiedBy>Natavudh Pungcharoenpong</cp:lastModifiedBy>
  <dcterms:modified xsi:type="dcterms:W3CDTF">2006-04-04T12:16:58Z</dcterms:modified>
  <cp:revision>51</cp:revision>
  <dc:subject/>
  <dc:title>Slide 1</dc:title>
</cp:coreProperties>
</file>